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2DD1670-8B91-4647-AE11-BEEAC5E2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AD71353-4C13-42FD-9F2C-9AA9ABF9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8004038-563C-4F9E-B21C-AA4A58927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AB2C027-F1BC-4B49-B3C1-0482722B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D4F23DF-08AA-47D7-958D-03F6514F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CA3476B-351A-49C4-8B95-2C08D1AC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4EC9D92-6DF9-4663-A5C9-8BC5C1C7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8EAE0DC-C44F-4C7C-8BB4-4D1CDEB6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C596AAF-F55F-460F-91AA-9EA9F815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FD94F31-58E4-42DF-B379-2044E2EF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04C9706-52FC-4862-91E6-0D8AB518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F7E783D-ECE3-410D-98C5-4D2F0EF1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E868F91-663A-47D7-9C1B-0D62C359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C69D3C0-E001-4773-B804-A2127A442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F7E032F-95D0-43DF-B414-FBCDC196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human_legacy_CONTENT_full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human_legacy_CONTENT_full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8" descr="human_legacy_CONTENT_full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19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ingdoms and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4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: The Growth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s of History: Alexander Ne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Rise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863640"/>
            <a:ext cx="8229600" cy="207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Christianity spread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2760" y="32274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ks from the Byzantine Empire traveled to Moravia and established the Cyrillic alphabet and a Slavonic mass to spread Christia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3"/>
          <p:cNvGrpSpPr/>
          <p:nvPr/>
        </p:nvGrpSpPr>
        <p:grpSpPr>
          <a:xfrm>
            <a:off x="533520" y="2509920"/>
            <a:ext cx="2590560" cy="3433320"/>
            <a:chOff x="533520" y="2509920"/>
            <a:chExt cx="2590560" cy="3433320"/>
          </a:xfrm>
        </p:grpSpPr>
        <p:sp>
          <p:nvSpPr>
            <p:cNvPr id="92" name="Text Box 4"/>
            <p:cNvSpPr/>
            <p:nvPr/>
          </p:nvSpPr>
          <p:spPr>
            <a:xfrm>
              <a:off x="5335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 death of Yaroslav, internal disputes common among 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 threat from princes whose lands were within state’s b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335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2"/>
          <p:cNvSpPr/>
          <p:nvPr/>
        </p:nvSpPr>
        <p:spPr>
          <a:xfrm>
            <a:off x="533520" y="1143000"/>
            <a:ext cx="8076960" cy="119124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mid-1000s, Kievan Rus reached the height of its power as a center of trade and culture. But by the end of the 1200s, it had suffered a steep decline. Kievan Rus was under attack—first by princes within its borders, and later by invaders from bey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3276720" y="2509920"/>
            <a:ext cx="2590560" cy="3433320"/>
            <a:chOff x="3276720" y="2509920"/>
            <a:chExt cx="2590560" cy="3433320"/>
          </a:xfrm>
        </p:grpSpPr>
        <p:sp>
          <p:nvSpPr>
            <p:cNvPr id="96" name="Text Box 7"/>
            <p:cNvSpPr/>
            <p:nvPr/>
          </p:nvSpPr>
          <p:spPr>
            <a:xfrm>
              <a:off x="3276720" y="2879280"/>
              <a:ext cx="2590560" cy="30639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ces wanted to enlarge 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69, one such prince, Andrew Bogolyubsky, captured Kiev, became new grand pri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276720" y="2509920"/>
              <a:ext cx="2590560" cy="36936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ogolyubs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6019920" y="2509920"/>
            <a:ext cx="2590560" cy="3433320"/>
            <a:chOff x="6019920" y="2509920"/>
            <a:chExt cx="2590560" cy="3433320"/>
          </a:xfrm>
        </p:grpSpPr>
        <p:sp>
          <p:nvSpPr>
            <p:cNvPr id="99" name="Text Box 10"/>
            <p:cNvSpPr/>
            <p:nvPr/>
          </p:nvSpPr>
          <p:spPr>
            <a:xfrm>
              <a:off x="6019920" y="2879280"/>
              <a:ext cx="2590560" cy="30639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rew insisted on ruling from home city, Vladim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rther weakened Kiev’s position as the 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ge set for fierce attacks from Europe, A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6019920" y="2509920"/>
              <a:ext cx="2590560" cy="36936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tage 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35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ievan Rus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g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s, Mongols, led by Genghis Khan, swept across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ghis Khan and Mongols created immens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raiders defeated Rus and their allies in 1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aster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s mostly left local princes in charge, did not interfere with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Alexander encouraged Russians not to rebel against new 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sult Mongols did not destroy as much as in othe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 of Kievan Ru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7, Genghis Khan died, empire divided into four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0, Kiev fell to Mongols led by Batu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 state established in southern Russia; Kievan Rus dominance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109" name="Text Box 3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e Prince Alexander who calmed Mongol threat, turned attention to Swe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ly 15, 1240, Alexander launched surprise attack against Swedish camp on Neva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defeated; Russia saved from full-scale invasion from no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ince Alexa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112" name="Text Box 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same time Mongols attacked Rus, danger came from different di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40, band of Swedes invaded Russian territory north of Novgor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49"/>
                </a:spcBef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edes wanted to take control of lucrative trade route between Russia, Byzantine Emp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we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hreat from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57200" y="1143000"/>
            <a:ext cx="8229600" cy="1345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known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Nevs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vi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ished by city of Novgorod after meddling in intern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other invader threatened, Novgorod turned again to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2590920"/>
            <a:ext cx="4038120" cy="3351960"/>
            <a:chOff x="457200" y="2590920"/>
            <a:chExt cx="4038120" cy="3351960"/>
          </a:xfrm>
        </p:grpSpPr>
        <p:sp>
          <p:nvSpPr>
            <p:cNvPr id="117" name="Text Box 4"/>
            <p:cNvSpPr/>
            <p:nvPr/>
          </p:nvSpPr>
          <p:spPr>
            <a:xfrm>
              <a:off x="457200" y="3177000"/>
              <a:ext cx="4038120" cy="2765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man military order of knights wanted to force Russians to abandon Orthodox Church, convert to Roman Catholic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utonic Knights invaded from Baltic Sea; Alexander fought several battles with t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57200" y="2590920"/>
              <a:ext cx="4038120" cy="5860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utonic Kn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4648320" y="2590920"/>
            <a:ext cx="4038120" cy="3351960"/>
            <a:chOff x="4648320" y="2590920"/>
            <a:chExt cx="4038120" cy="3351960"/>
          </a:xfrm>
        </p:grpSpPr>
        <p:sp>
          <p:nvSpPr>
            <p:cNvPr id="120" name="Text Box 7"/>
            <p:cNvSpPr/>
            <p:nvPr/>
          </p:nvSpPr>
          <p:spPr>
            <a:xfrm>
              <a:off x="4648320" y="3177000"/>
              <a:ext cx="4038120" cy="27658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il 1242, Alexander’s army lured Knights onto thinning 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e cracked; men, horses fell into freezing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tle known as massacre on the ice, one of Russia’s most fam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vsky celebrated as h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4648320" y="2590920"/>
              <a:ext cx="4038120" cy="5860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ssacre on the 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on from the Ba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p359"/>
          <p:cNvPicPr/>
          <p:nvPr/>
        </p:nvPicPr>
        <p:blipFill>
          <a:blip r:embed="rId1"/>
          <a:stretch/>
        </p:blipFill>
        <p:spPr>
          <a:xfrm>
            <a:off x="1122480" y="878040"/>
            <a:ext cx="68976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re than 200 years after Alexander’s battles, Russia remained under the control of Asian nomadic peopl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126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tars, central Asian people who spoke a Turkic language, emerged as Russia’s rulers after Mong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80, Russia eventually freed from foreign do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at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129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scovy, east of Kiev, grew in importance within Rus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me capital of nation that gradually expanded to occupy much of A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uscov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Kiev to Musc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825480"/>
            <a:ext cx="8229600" cy="261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eople first invaded Russia in 1223? What other groups inv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82760" y="37227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gols; Swedes, Ger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Rus affect the early history of Kiev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factors helped establish Christianity in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eoples attacked Russ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as a blend of Slavs and northern Europeans, the Russians organized as a state, became Christian, and fought inva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se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1143000"/>
            <a:ext cx="8076960" cy="7621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ousands of years, hunter-gatherers managed to make a living in the sometimes harsh climate of what we now call Ukraine and Russi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59" name="Text Box 4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avs among those who occupied 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ed historical record AD 800s, as written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he Russian Primary Chron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uring mid-800s, Slavs along Dnieper River fighting among selves; asked for help from northern Europeans, called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he Rus of Kie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62" name="Text Box 7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e brothers, Rus people migrated to Novgorod, trading center; oldest brother, Rurik, brought order to Slav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82, Rurik’s successor, Oleg, ventured further south to Kiev, united re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7 Oleg wanted to extend Kiev south, successfully attacked Constantin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us and Ki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352680"/>
            <a:ext cx="8229600" cy="2438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van region became state called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height of Kievan Rus’ power, prestige, ruler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roslav the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9, Yaroslav became grand prince, ruled until 1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many cultural, administrative improvements to Kievan 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5720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K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g’s victory produced advantageous trade agreement, beginning of close connection between Byzantine Empire, Russia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900s, Rus extended control far beyond Ki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 Khazars, freed several Slavic tribes Khazars had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ural and Administrativ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ed religious books, hired scribes to translate from Greek into Slav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an ambitious building program to beautify Ki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cord was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ed lost territory, defeated nomadic Pechen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ed to attack Constantinople, but forces were cr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uccessful dealing with western Eur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good diplomatic, trade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d marriages between daughters, European pr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p357"/>
          <p:cNvPicPr/>
          <p:nvPr/>
        </p:nvPicPr>
        <p:blipFill>
          <a:blip r:embed="rId1"/>
          <a:stretch/>
        </p:blipFill>
        <p:spPr>
          <a:xfrm>
            <a:off x="2540160" y="658800"/>
            <a:ext cx="436716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888840"/>
            <a:ext cx="8229600" cy="24894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Rus, and what was their connection to Kie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2760" y="36338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roup of northern Europeans—perhaps Vikings—who came to rule the Sl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9"/>
          <p:cNvGrpSpPr/>
          <p:nvPr/>
        </p:nvGrpSpPr>
        <p:grpSpPr>
          <a:xfrm>
            <a:off x="4660920" y="1143000"/>
            <a:ext cx="4025520" cy="4723920"/>
            <a:chOff x="4660920" y="1143000"/>
            <a:chExt cx="4025520" cy="4723920"/>
          </a:xfrm>
        </p:grpSpPr>
        <p:sp>
          <p:nvSpPr>
            <p:cNvPr id="76" name="Text Box 20"/>
            <p:cNvSpPr/>
            <p:nvPr/>
          </p:nvSpPr>
          <p:spPr>
            <a:xfrm>
              <a:off x="4660920" y="1651320"/>
              <a:ext cx="4025520" cy="4215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Slavonic language to celebrate mass; use of native language helped convert many Morav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two developed written alphabet for Slavonic language, based on Greek alphabet, calle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lic alphab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nks to Cyril, Methodius Byzantine version of Christianity spread to Russ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660920" y="1143000"/>
              <a:ext cx="4025520" cy="508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lavonic 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5"/>
          <p:cNvGrpSpPr/>
          <p:nvPr/>
        </p:nvGrpSpPr>
        <p:grpSpPr>
          <a:xfrm>
            <a:off x="457200" y="1143000"/>
            <a:ext cx="4025520" cy="4723920"/>
            <a:chOff x="457200" y="1143000"/>
            <a:chExt cx="4025520" cy="4723920"/>
          </a:xfrm>
        </p:grpSpPr>
        <p:sp>
          <p:nvSpPr>
            <p:cNvPr id="79" name="Text Box 26"/>
            <p:cNvSpPr/>
            <p:nvPr/>
          </p:nvSpPr>
          <p:spPr>
            <a:xfrm>
              <a:off x="457200" y="1651320"/>
              <a:ext cx="4025520" cy="4215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Byzantine Empire affected Russia not only with warfare, trade, but also with Christian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Rurik, Oleg, Slavs practiced native religion based on nature, with many g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63, Constantinople churchman sent two Greek monks to Moravia to convert Slavs to Christianity, brother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7"/>
            <p:cNvSpPr/>
            <p:nvPr/>
          </p:nvSpPr>
          <p:spPr>
            <a:xfrm>
              <a:off x="457200" y="1143000"/>
              <a:ext cx="4025520" cy="50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yril and Method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8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ity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143000"/>
            <a:ext cx="8229600" cy="1594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convert, Grand Du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adimi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ptized a Christian; married sister of a Byzantine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helped gain economic, political advantages from Byzantin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4129200"/>
            <a:ext cx="8229600" cy="15940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1054 schism, semi-independent church set up in Russia still linked to Orthodox Church in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became Russian Orthodox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made saint in new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2771640"/>
            <a:ext cx="8229600" cy="131976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conversion politically motivated, he built libraries, schools,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988, Vladimir made Christianity state religion of Kieva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spread, but tensions between branches of church grew 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ia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IT User</cp:lastModifiedBy>
  <cp:lastPrinted>2005-02-01T16:21:45Z</cp:lastPrinted>
  <dcterms:modified xsi:type="dcterms:W3CDTF">2011-04-04T06:58:52Z</dcterms:modified>
  <cp:revision>239</cp:revision>
  <dc:subject/>
  <dc:title>PowerPoint Presentation</dc:title>
</cp:coreProperties>
</file>